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29B-3A83-4E46-AC04-A809497F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14C-406B-46AF-9EE9-91652618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83D-51D5-4B84-AF42-98648C27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F5E-AEA4-4931-9FB2-3A81E4FD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11E5-2895-4B6E-8C80-E03C78EE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6B90-40CE-4B7D-8EC6-D8F4EDA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9083-4CA4-4014-BD97-C5A7893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7A8E-FE54-4282-8D44-D6894BD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308F-5E29-465B-9862-08A7F978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12B6-5984-4BD7-8282-BE586A84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1A3-99DC-478B-BF84-67CB27DA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BB1-3AE9-4417-8C4F-E8448728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3036-2A9D-45A7-8C2E-E04451BD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0C6F-CAB4-4D21-AE5A-ADFED9C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358-777B-4050-84EE-0E87D88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1A6-7190-4E5B-BCE8-395FCFAE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E72B-6726-45E9-AA9C-D1266B5D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073-8950-4D44-89B6-8CE5C205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CF4-1B85-4635-BB32-DB6CAFD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6E7-5371-409E-8132-AC0B5C17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E94-0281-4B48-95DF-C473FBFA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57C-0E5A-4F5B-8147-D3AAC42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7DB-6F3E-4643-A1DE-A8FBB0A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1F8-9DA8-43E7-8BCB-E66B479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5D6B-D4FB-480B-80F3-12CD119FE9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841-43BB-4606-87FB-22E98A45EF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Base EQUILIBRIUM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: A strong acid ionizes completely and a strong base ionizes or dissociates complet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strong acids: HClO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HI, HBr, HCl, H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HN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ak Acids: all the other acids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strong bases: hydroxides of alkali metals and alkaline Earth metals: KOH, NaOH, Ba(OH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Mg(OH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Weak Bases: The nitrogen family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,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c bases containing Nitro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CA1-1885-4492-AF27-B1365BBE56C1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xperimental Determination of K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gree of io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weak electrolyte is the fraction of molecules that react with water to give 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3544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ical conductivity can be measured to determine the degree of io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00600"/>
            <a:ext cx="8153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ith weak acids, the pH can be used to determine the equilibrium composition of ions in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FE8-8B3B-424C-A6AE-01CAFBAB7129}" type="slidenum">
              <a:t>10</a:t>
            </a:fld>
          </a:p>
        </p:txBody>
      </p:sp>
    </p:spTree>
  </p:cSld>
  <p:transition spd="med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0402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is important to realize that the solution was made 0.012 M in nicotinic acid, however, some molecules ionize making the equilibrium concentration of nicotinic acid less than 0.012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640480"/>
            <a:ext cx="80773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will abbreviate the formula for nicotinic acid as HN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440-715F-4089-88BB-CD579D38B920}" type="slidenum">
              <a:t>11</a:t>
            </a:fld>
          </a:p>
        </p:txBody>
      </p:sp>
    </p:spTree>
  </p:cSld>
  <p:transition spd="med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5029200"/>
          <a:ext cx="8458200" cy="12333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219320"/>
                <a:gridCol w="838080"/>
                <a:gridCol w="1524240"/>
                <a:gridCol w="152388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12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33520" y="3981600"/>
            <a:ext cx="80769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Let x be the moles per liter of product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79640" y="4419720"/>
                <a:ext cx="7012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Ni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  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c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882680" y="4610160"/>
            <a:ext cx="756000" cy="128520"/>
            <a:chOff x="4882680" y="4610160"/>
            <a:chExt cx="756000" cy="128520"/>
          </a:xfrm>
        </p:grpSpPr>
        <p:sp>
          <p:nvSpPr>
            <p:cNvPr id="150" name=""/>
            <p:cNvSpPr/>
            <p:nvPr/>
          </p:nvSpPr>
          <p:spPr>
            <a:xfrm>
              <a:off x="4883040" y="46101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82680" y="47386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363-2CB9-42AF-A340-C8D039B2FDD1}" type="slidenum">
              <a:t>12</a:t>
            </a:fld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343400"/>
            <a:ext cx="80769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ilibrium-constant express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0200" y="5029200"/>
                <a:ext cx="35974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Nic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087-05AC-4831-BD99-4728F68236DF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14800"/>
            <a:ext cx="80773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ing the expressions for the equilibrium concentrations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800440" y="4952880"/>
                <a:ext cx="2995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89D-D999-4F8F-B322-6B67CADEE62E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87640"/>
            <a:ext cx="80773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e can obtain th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of x from the given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05120" y="4624560"/>
                <a:ext cx="5064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ti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9800" y="5392800"/>
                <a:ext cx="3424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ti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01880" y="5996160"/>
                <a:ext cx="4270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B47-8C28-41D6-9F4B-1581234E3F89}" type="slidenum">
              <a:t>15</a:t>
            </a:fld>
          </a:p>
        </p:txBody>
      </p:sp>
    </p:spTree>
  </p:cSld>
  <p:transition spd="med"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67120"/>
            <a:ext cx="8534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e this value of x in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66640" y="4343400"/>
            <a:ext cx="8577360" cy="4265280"/>
            <a:chOff x="566640" y="4343400"/>
            <a:chExt cx="8577360" cy="4265280"/>
          </a:xfrm>
        </p:grpSpPr>
        <p:sp>
          <p:nvSpPr>
            <p:cNvPr id="170" name=""/>
            <p:cNvSpPr/>
            <p:nvPr/>
          </p:nvSpPr>
          <p:spPr>
            <a:xfrm>
              <a:off x="609480" y="4343400"/>
              <a:ext cx="8534520" cy="42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Note first, however, th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66640" y="4975560"/>
                  <a:ext cx="786132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4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159</m:t>
                      </m:r>
                      <m:r>
                        <m:t xml:space="preserve">≃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609480" y="5334120"/>
            <a:ext cx="8534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concentration of unionized acid remains virtually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unchanged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42B-B4DA-47C4-9BD3-EBAF7437C9A2}" type="slidenum">
              <a:t>16</a:t>
            </a:fld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19256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bstitute this value of x in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71560" y="4913280"/>
                <a:ext cx="75103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4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0E7-529C-43D6-A047-2E8847E87796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otinic acid is a weak monoprotic acid with the formula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0.012 M solution of nicotinic acid has a pH of 3.39 at 25°C. Calculate the acid-ionization constant for this acid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41162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obtain the degree of dissoc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30360" y="4533840"/>
                <a:ext cx="7632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ree  of dissociatio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4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609480" y="5638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ercent ionization is obtained by multiplying by 100, which gives 3.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C15-D5F7-4C79-A0C7-58A7884A7D8F}" type="slidenum">
              <a:t>18</a:t>
            </a:fld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ce you know the value of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calculate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quilibrium concentrations of species HA, A-, and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r solutions of different mola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925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neral method for doing this was discussed in Chapter 7 (ICE 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FC7-2B77-4BE9-9A9F-5632788C3A20}" type="slidenum">
              <a:t>19</a:t>
            </a:fld>
          </a:p>
        </p:txBody>
      </p:sp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Predict the direction of an Acid-base reactio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the acid to the conjugate acid strength.  The direction favoured is the one that has the stronger acid as reac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  +   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      +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Water is the acid on the left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is the conjugate acid on the right, we need to check which one is stronger…. Go to page 747 to check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stronger so the reverse reaction is favou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59C-C110-4ADD-B97A-A7C90EF6FB6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e that in our previous example, the degree of dissociation was so small tha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x” was negligible compared to the concentration of nicotinic acid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125880"/>
            <a:ext cx="77695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is 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mall value of the degree of ionization that allowed us to ignore the subtracted 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n the denominator of our equilibrium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gree of ionization of a weak acid depends on both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the concentration of the acid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1C3-E2B2-4FF6-9F8E-8048F59C4B2C}" type="slidenum">
              <a:t>20</a:t>
            </a:fld>
          </a:p>
        </p:txBody>
      </p:sp>
    </p:spTree>
  </p:cSld>
  <p:transition spd="med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you know when you can use this simplifying assump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952880"/>
            <a:ext cx="76201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this simplifying assumption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ignoring the subtracted x gives an </a:t>
            </a:r>
            <a:r>
              <a:rPr b="1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acceptabl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error of less than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3520" y="2362320"/>
            <a:ext cx="7769160" cy="4113000"/>
            <a:chOff x="533520" y="2362320"/>
            <a:chExt cx="7769160" cy="4113000"/>
          </a:xfrm>
        </p:grpSpPr>
        <p:sp>
          <p:nvSpPr>
            <p:cNvPr id="192" name=""/>
            <p:cNvSpPr/>
            <p:nvPr/>
          </p:nvSpPr>
          <p:spPr>
            <a:xfrm>
              <a:off x="533520" y="2362320"/>
              <a:ext cx="77691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t can be shown that if the acid concentration, C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, divided by the K</a:t>
              </a:r>
              <a:r>
                <a:rPr b="0" lang="en-US" sz="2400" spc="-1" strike="noStrike" baseline="-25000">
                  <a:solidFill>
                    <a:srgbClr val="376bb4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exceeds 1000, that i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387680" y="3927240"/>
                  <a:ext cx="87120" cy="3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72E-AAB4-4AFC-B0E2-D16CC34BD71C}" type="slidenum">
              <a:t>21</a:t>
            </a:fld>
          </a:p>
        </p:txBody>
      </p:sp>
    </p:spTree>
  </p:cSld>
  <p:transition spd="med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alculations With K</a:t>
            </a:r>
            <a:r>
              <a:rPr b="0" lang="en-US" sz="4400" spc="-1" strike="noStrike" baseline="-25000">
                <a:solidFill>
                  <a:srgbClr val="666699"/>
                </a:solidFill>
                <a:latin typeface="Garamond"/>
              </a:rPr>
              <a:t>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you know when you can use this simplifying assump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209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f the simplifying assumptio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is not valid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you can solve the equilibrium equation exactly by using 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dratic equatio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344840"/>
            <a:ext cx="76201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next example illustrates this with a solution of aspirin (acetylsalicylic acid),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a common headache reme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9C2-2AF3-46F9-AC87-83B315B89412}" type="slidenum">
              <a:t>22</a:t>
            </a:fld>
          </a:p>
        </p:txBody>
      </p:sp>
    </p:spTree>
  </p:cSld>
  <p:transition spd="med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6576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molar mass of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180.2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41792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rom this we find that the sample contained 0.00180 mol of the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AB0-2DC7-43FD-851B-00CFA3F8790C}" type="slidenum">
              <a:t>23</a:t>
            </a:fld>
          </a:p>
        </p:txBody>
      </p:sp>
    </p:spTree>
  </p:cSld>
  <p:transition spd="med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26708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Hence, the concentration of the acetylsalicylic acid is  0.00180 mol/0.500 L = </a:t>
            </a:r>
            <a:r>
              <a:rPr b="1" lang="en-US" sz="2000" spc="-1" strike="noStrike">
                <a:solidFill>
                  <a:srgbClr val="376bb4"/>
                </a:solidFill>
                <a:latin typeface="Arial"/>
              </a:rPr>
              <a:t>0.0036 M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 (Retain two significant figures, the same number of significant figures in K</a:t>
            </a:r>
            <a:r>
              <a:rPr b="0" lang="en-US" sz="20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659040"/>
            <a:ext cx="7769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molar mass of HC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180.2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4C0-3C57-4274-BD1C-2D88B9C78E86}" type="slidenum">
              <a:t>24</a:t>
            </a:fld>
          </a:p>
        </p:txBody>
      </p:sp>
    </p:spTree>
  </p:cSld>
  <p:transition spd="med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334120"/>
            <a:ext cx="8229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ich is less than 1000, 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e must solve the equilibrium equation exactly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54360" y="4210200"/>
                <a:ext cx="5384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36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977-3230-471F-9510-53C70D566C07}" type="slidenum">
              <a:t>25</a:t>
            </a:fld>
          </a:p>
        </p:txBody>
      </p:sp>
    </p:spTree>
  </p:cSld>
  <p:transition spd="med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will abbreviate the formula for acetylsalicylic acid a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HA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nd let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be the amount of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formed per l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878360"/>
            <a:ext cx="8229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amount of acetylsalicylate ion is als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ol; the amount of nonionized acetylsalicylic acid is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0.0036-x) mo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855-70D5-4719-AE7F-76B6BCF63FA6}" type="slidenum">
              <a:t>26</a:t>
            </a:fld>
          </a:p>
        </p:txBody>
      </p:sp>
    </p:spTree>
  </p:cSld>
  <p:transition spd="med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013360"/>
          <a:ext cx="8458200" cy="123336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219320"/>
                <a:gridCol w="838080"/>
                <a:gridCol w="1524240"/>
                <a:gridCol w="152388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36-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933560" y="4173480"/>
                <a:ext cx="7104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c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  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"/>
          <p:cNvGrpSpPr/>
          <p:nvPr/>
        </p:nvGrpSpPr>
        <p:grpSpPr>
          <a:xfrm>
            <a:off x="4882680" y="4349880"/>
            <a:ext cx="756000" cy="128520"/>
            <a:chOff x="4882680" y="4349880"/>
            <a:chExt cx="756000" cy="128520"/>
          </a:xfrm>
        </p:grpSpPr>
        <p:sp>
          <p:nvSpPr>
            <p:cNvPr id="220" name=""/>
            <p:cNvSpPr/>
            <p:nvPr/>
          </p:nvSpPr>
          <p:spPr>
            <a:xfrm>
              <a:off x="4883040" y="43498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82680" y="447840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7240" y="3657600"/>
            <a:ext cx="77695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se data are summarized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BB1-63ED-406E-82A7-126E1703C358}" type="slidenum">
              <a:t>27</a:t>
            </a:fld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ilibrium constant express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63720" y="4343400"/>
                <a:ext cx="36180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c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DFD-F85F-46FB-8FF0-D7CA9CE00626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substitute the equilibrium concentrations and the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nto the equilibrium constant expression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03360" y="4800600"/>
                <a:ext cx="4321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C3E-FAC5-4938-83C1-B8B5021D7F31}" type="slidenum">
              <a:t>29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olutions of a Weak Acid or Bas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plest acid-base equilibria are those in which a single acid or base solute reacts with wa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0481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this chapter, we will first look at solutions of weak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cid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Section 8.2) and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ases (8.3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2116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e must also consider solutions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salt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which can have acidic or basic properties as a result of the reactions of their ions with water. ( 8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2E1-1587-4891-848B-2AB51F9F08FE}" type="slidenum">
              <a:t>3</a:t>
            </a:fld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9480" y="4040280"/>
            <a:ext cx="7769520" cy="4113000"/>
            <a:chOff x="609480" y="4040280"/>
            <a:chExt cx="7769520" cy="4113000"/>
          </a:xfrm>
        </p:grpSpPr>
        <p:sp>
          <p:nvSpPr>
            <p:cNvPr id="234" name=""/>
            <p:cNvSpPr/>
            <p:nvPr/>
          </p:nvSpPr>
          <p:spPr>
            <a:xfrm>
              <a:off x="609480" y="4040280"/>
              <a:ext cx="7769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Rearranging the preceding equation to put it in the form ax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+ bx + c = 0, we 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600200" y="5600520"/>
                  <a:ext cx="61754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609480" y="36576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You can solve this equation exactly by using the quadratic formu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8B5-F85A-42A9-820C-777DCFE60032}" type="slidenum">
              <a:t>30</a:t>
            </a:fld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w substitute into the quadratic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490840" y="4343400"/>
                <a:ext cx="30718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81F-35BD-46ED-A3ED-82B38AA04774}" type="slidenum">
              <a:t>31</a:t>
            </a:fld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w substitute into the quadratic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85800" y="4419720"/>
                <a:ext cx="7553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609480" y="548640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lower sign in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  <a:ea typeface="Times New Roman"/>
              </a:rPr>
              <a:t>± gives a negative root which we can ig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248-2799-4EBF-89BA-13717F256FDC}" type="slidenum">
              <a:t>32</a:t>
            </a:fld>
          </a:p>
        </p:txBody>
      </p:sp>
    </p:spTree>
  </p:cSld>
  <p:transition spd="med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36590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aking the upper sign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 Problem To Conside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pH at 25°C of a solution obtained by dissolving 0.325 g of acetylsalicylic acid (aspirin), H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 0.500 L of water? The acid is monoprotic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3.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t 25°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533680" y="4267080"/>
                <a:ext cx="40957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609480" y="5030640"/>
            <a:ext cx="7769520" cy="4113360"/>
            <a:chOff x="609480" y="5030640"/>
            <a:chExt cx="7769520" cy="4113360"/>
          </a:xfrm>
        </p:grpSpPr>
        <p:sp>
          <p:nvSpPr>
            <p:cNvPr id="251" name=""/>
            <p:cNvSpPr/>
            <p:nvPr/>
          </p:nvSpPr>
          <p:spPr>
            <a:xfrm>
              <a:off x="609480" y="5030640"/>
              <a:ext cx="776952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Now we can calculate the p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009880" y="5599080"/>
                  <a:ext cx="51069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CE0-ECA9-4483-ADA7-AB57BE3BA413}" type="slidenum">
              <a:t>33</a:t>
            </a:fld>
          </a:p>
        </p:txBody>
      </p:sp>
    </p:spTree>
  </p:cSld>
  <p:transition spd="med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7368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proton is lost completely followed by a weak ionization of the hydrogen sulfate ion, HS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80988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ulfuric acid, for example, can lose two protons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05040" y="4572000"/>
                <a:ext cx="7705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804960" y="5183280"/>
                <a:ext cx="7926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4273200" y="5429160"/>
            <a:ext cx="756000" cy="128520"/>
            <a:chOff x="4273200" y="5429160"/>
            <a:chExt cx="756000" cy="128520"/>
          </a:xfrm>
        </p:grpSpPr>
        <p:sp>
          <p:nvSpPr>
            <p:cNvPr id="260" name=""/>
            <p:cNvSpPr/>
            <p:nvPr/>
          </p:nvSpPr>
          <p:spPr>
            <a:xfrm>
              <a:off x="4273560" y="542916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273200" y="555768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0B0-77BC-42BA-A024-E814CDBC4615}" type="slidenum">
              <a:t>34</a:t>
            </a:fld>
          </a:p>
        </p:txBody>
      </p:sp>
    </p:spTree>
  </p:cSld>
  <p:transition spd="med"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87640"/>
            <a:ext cx="7769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For a weak diprotic acid like carbonic acid,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wo simultaneous equilibria must be consid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9800" y="4879800"/>
            <a:ext cx="8251920" cy="1368720"/>
            <a:chOff x="739800" y="4879800"/>
            <a:chExt cx="8251920" cy="1368720"/>
          </a:xfrm>
        </p:grpSpPr>
        <p:grpSp>
          <p:nvGrpSpPr>
            <p:cNvPr id="265" name=""/>
            <p:cNvGrpSpPr/>
            <p:nvPr/>
          </p:nvGrpSpPr>
          <p:grpSpPr>
            <a:xfrm>
              <a:off x="739800" y="4879800"/>
              <a:ext cx="8251920" cy="1368720"/>
              <a:chOff x="739800" y="4879800"/>
              <a:chExt cx="8251920" cy="1368720"/>
            </a:xfrm>
          </p:grpSpPr>
          <mc:AlternateContent>
            <mc:Choice xmlns:a14="http://schemas.microsoft.com/office/drawing/2010/main" Requires="a14">
              <p:sp>
                <p:nvSpPr>
                  <p:cNvPr id="266" name=""/>
                  <p:cNvSpPr txBox="1"/>
                  <p:nvPr/>
                </p:nvSpPr>
                <p:spPr>
                  <a:xfrm>
                    <a:off x="901800" y="4879800"/>
                    <a:ext cx="8089920" cy="52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7" name=""/>
                  <p:cNvSpPr txBox="1"/>
                  <p:nvPr/>
                </p:nvSpPr>
                <p:spPr>
                  <a:xfrm>
                    <a:off x="739800" y="5713560"/>
                    <a:ext cx="8058240" cy="53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68" name=""/>
            <p:cNvGrpSpPr/>
            <p:nvPr/>
          </p:nvGrpSpPr>
          <p:grpSpPr>
            <a:xfrm>
              <a:off x="4266720" y="5967360"/>
              <a:ext cx="756000" cy="128520"/>
              <a:chOff x="4266720" y="5967360"/>
              <a:chExt cx="756000" cy="1285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67080" y="596736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266720" y="609588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349520" y="5105520"/>
              <a:ext cx="756000" cy="128520"/>
              <a:chOff x="4349520" y="5105520"/>
              <a:chExt cx="756000" cy="128520"/>
            </a:xfrm>
          </p:grpSpPr>
          <p:sp>
            <p:nvSpPr>
              <p:cNvPr id="272" name=""/>
              <p:cNvSpPr/>
              <p:nvPr/>
            </p:nvSpPr>
            <p:spPr>
              <a:xfrm>
                <a:off x="4349880" y="510552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4349520" y="5234040"/>
                <a:ext cx="755640" cy="0"/>
              </a:xfrm>
              <a:prstGeom prst="line">
                <a:avLst/>
              </a:prstGeom>
              <a:ln w="4140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A45-98E1-4A98-AB5A-12335C2B4CC5}" type="slidenum">
              <a:t>35</a:t>
            </a:fld>
          </a:p>
        </p:txBody>
      </p:sp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3828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equilibrium has an associated acid-ioniz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04880" y="4649760"/>
            <a:ext cx="7769160" cy="4113360"/>
            <a:chOff x="704880" y="4649760"/>
            <a:chExt cx="7769160" cy="4113360"/>
          </a:xfrm>
        </p:grpSpPr>
        <p:sp>
          <p:nvSpPr>
            <p:cNvPr id="278" name=""/>
            <p:cNvSpPr/>
            <p:nvPr/>
          </p:nvSpPr>
          <p:spPr>
            <a:xfrm>
              <a:off x="704880" y="4649760"/>
              <a:ext cx="7769160" cy="41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3" marL="1600200" indent="-228600">
                <a:lnSpc>
                  <a:spcPct val="100000"/>
                </a:lnSpc>
                <a:spcBef>
                  <a:spcPts val="49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6bb4"/>
                  </a:solidFill>
                  <a:latin typeface="Arial"/>
                </a:rPr>
                <a:t>For the loss of the </a:t>
              </a:r>
              <a:r>
                <a:rPr b="1" lang="en-US" sz="2000" spc="-1" strike="noStrike">
                  <a:solidFill>
                    <a:srgbClr val="376bb4"/>
                  </a:solidFill>
                  <a:latin typeface="Arial"/>
                </a:rPr>
                <a:t>first</a:t>
              </a:r>
              <a:r>
                <a:rPr b="0" lang="en-US" sz="2000" spc="-1" strike="noStrike">
                  <a:solidFill>
                    <a:srgbClr val="376bb4"/>
                  </a:solidFill>
                  <a:latin typeface="Arial"/>
                </a:rPr>
                <a:t> pro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685880" y="5340600"/>
                  <a:ext cx="550800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CO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C6A-FC67-4DAD-BA75-5B05CB1D20EB}" type="slidenum">
              <a:t>36</a:t>
            </a:fld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383076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equilibrium has an associated acid-ionization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46497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cbd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For the loss of the </a:t>
            </a:r>
            <a:r>
              <a:rPr b="1" lang="en-US" sz="2000" spc="-1" strike="noStrike">
                <a:solidFill>
                  <a:srgbClr val="376bb4"/>
                </a:solidFill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376bb4"/>
                </a:solidFill>
                <a:latin typeface="Arial"/>
              </a:rPr>
              <a:t>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52560" y="5295960"/>
                <a:ext cx="5443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2BD-1E22-43B7-BC38-AA86DE7ABF6A}" type="slidenum">
              <a:t>37</a:t>
            </a:fld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5106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the case of a triprotic acid, such as 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the third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3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s smaller than the second one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96396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general, the second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for a polyprotic acid is smaller than the first ionization constant, 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a1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6A0-BFB2-4195-A995-2A96D164CDD8}" type="slidenum">
              <a:t>38</a:t>
            </a:fld>
          </a:p>
        </p:txBody>
      </p:sp>
    </p:spTree>
  </p:cSld>
  <p:transition spd="med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41911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owever, reasonable assumptions can be made that simplify these calculations.  Worry about First Ionization on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nd of 8.2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olyprotic Acid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297180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several equilibria occur at once, it might appear complicated to calculate equilibrium com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cids have two or more protons (hydrogen ions) to donate in aqueous solution. These are referred to 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protic ac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F7E-5125-4002-A101-2A6AD6BE2142}" type="slidenum">
              <a:t>39</a:t>
            </a:fld>
          </a:p>
        </p:txBody>
      </p:sp>
    </p:spTree>
  </p:cSld>
  <p:transition spd="med"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cid ioniz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or acid dissociation) is the reaction of an acid with water to produce hydronium ion (hydrogen ion) and the conjugate base an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05520"/>
            <a:ext cx="77691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Because acetic acid is a weak electrolyte, it ionizes to a small extent in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3429000"/>
            <a:ext cx="9050040" cy="4113360"/>
            <a:chOff x="685800" y="3429000"/>
            <a:chExt cx="9050040" cy="4113360"/>
          </a:xfrm>
        </p:grpSpPr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190120" y="4411800"/>
                  <a:ext cx="45457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       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05" name=""/>
            <p:cNvGrpSpPr/>
            <p:nvPr/>
          </p:nvGrpSpPr>
          <p:grpSpPr>
            <a:xfrm>
              <a:off x="685800" y="3429000"/>
              <a:ext cx="8533800" cy="4113360"/>
              <a:chOff x="685800" y="3429000"/>
              <a:chExt cx="8533800" cy="411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85800" y="3429000"/>
                <a:ext cx="8533800" cy="4113360"/>
                <a:chOff x="685800" y="3429000"/>
                <a:chExt cx="8533800" cy="4113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63360" y="3429000"/>
                  <a:ext cx="8256240" cy="41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649"/>
                    </a:spcBef>
                    <a:buClr>
                      <a:srgbClr val="cbd990"/>
                    </a:buClr>
                    <a:buFont typeface="Arial"/>
                    <a:buChar char="–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376bb4"/>
                      </a:solidFill>
                      <a:latin typeface="Arial"/>
                    </a:rPr>
                    <a:t>When acetic acid is added to water it reacts as follows.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8" name=""/>
                    <p:cNvSpPr txBox="1"/>
                    <p:nvPr/>
                  </p:nvSpPr>
                  <p:spPr>
                    <a:xfrm>
                      <a:off x="685800" y="4483080"/>
                      <a:ext cx="4774320" cy="424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aq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09" name=""/>
              <p:cNvGrpSpPr/>
              <p:nvPr/>
            </p:nvGrpSpPr>
            <p:grpSpPr>
              <a:xfrm>
                <a:off x="4360680" y="4646880"/>
                <a:ext cx="730800" cy="136440"/>
                <a:chOff x="4360680" y="4646880"/>
                <a:chExt cx="730800" cy="1364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60680" y="4646880"/>
                  <a:ext cx="73080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4360680" y="4783320"/>
                  <a:ext cx="730800" cy="0"/>
                </a:xfrm>
                <a:prstGeom prst="line">
                  <a:avLst/>
                </a:prstGeom>
                <a:ln w="4140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825-CB52-4EA0-A90D-BAB6F107D1E6}" type="slidenum">
              <a:t>4</a:t>
            </a:fld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8480" y="3962520"/>
            <a:ext cx="8615520" cy="4113000"/>
            <a:chOff x="528480" y="3962520"/>
            <a:chExt cx="8615520" cy="4113000"/>
          </a:xfrm>
        </p:grpSpPr>
        <p:sp>
          <p:nvSpPr>
            <p:cNvPr id="115" name=""/>
            <p:cNvSpPr/>
            <p:nvPr/>
          </p:nvSpPr>
          <p:spPr>
            <a:xfrm>
              <a:off x="609480" y="3962520"/>
              <a:ext cx="85345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76bb4"/>
                  </a:solidFill>
                  <a:latin typeface="Arial"/>
                </a:rPr>
                <a:t>Consider the generic monoprotic acid, H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528480" y="4741920"/>
                  <a:ext cx="7980480" cy="59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l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       H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3962160" y="5425920"/>
            <a:ext cx="756000" cy="136800"/>
            <a:chOff x="3962160" y="5425920"/>
            <a:chExt cx="756000" cy="136800"/>
          </a:xfrm>
        </p:grpSpPr>
        <p:sp>
          <p:nvSpPr>
            <p:cNvPr id="118" name=""/>
            <p:cNvSpPr/>
            <p:nvPr/>
          </p:nvSpPr>
          <p:spPr>
            <a:xfrm>
              <a:off x="3962520" y="54259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62160" y="5562720"/>
              <a:ext cx="755640" cy="0"/>
            </a:xfrm>
            <a:prstGeom prst="line">
              <a:avLst/>
            </a:prstGeom>
            <a:ln w="4140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43000" y="34290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3BD-EC15-4D4A-969C-384D4B01993E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42116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bb4"/>
                </a:solidFill>
                <a:latin typeface="Arial"/>
              </a:rPr>
              <a:t>The corresponding equilibrium expression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970520"/>
                <a:ext cx="327024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656-B951-4B90-B44B-E39F37695A43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3448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ince the concentration of water remains relatively constant, we rearrange the equation to 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79680" y="5141880"/>
                <a:ext cx="543060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]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CB2-0F3F-4FA0-9407-5E3569CAACD9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344840"/>
            <a:ext cx="85345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us,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, the acid-ionization constant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the constant [H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]K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49600" y="5218200"/>
                <a:ext cx="3290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B06-DD66-4CF4-AE39-FC01C1560601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id-Ionization Equilib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weak acid, the equilibrium concentrations of ions in solution are determined by 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id-ionization consta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called the acid-dissociation consta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344840"/>
            <a:ext cx="79250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able on page 747 lists acid-ionization constants for various weak acids at 25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7D6-C455-4890-A36A-F1879633765E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Cook</dc:creator>
  <dc:description/>
  <cp:keywords/>
  <dc:language>en-US</dc:language>
  <cp:lastModifiedBy>C363966</cp:lastModifiedBy>
  <dcterms:modified xsi:type="dcterms:W3CDTF">2014-04-10T17:44:10Z</dcterms:modified>
  <cp:revision>194</cp:revision>
  <dc:subject>Chapter 17</dc:subject>
  <dc:title>Acid-Base Equilibria</dc:title>
</cp:coreProperties>
</file>